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png" ContentType="image/png"/>
  <Override PartName="/ppt/media/image4.gif" ContentType="image/gif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47AD-1453-4980-86C0-0F092B1AE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2C41-6FCD-482A-BACB-627F1270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4CB7-78BD-4DFA-95C3-6ACF63DD9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765F-0485-411C-BE50-7460406AB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452C-035F-4355-A518-3999027A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0637-C9E2-4857-8984-43E6F046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783F-3E1F-4F9E-BABE-FBD8C525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3B8B-C671-419E-981C-CEFAE683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5A1B-F842-4F3B-BC89-9EFD7F53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59EA-9F65-4879-9F82-17E164CD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4714-7C2C-40F5-B952-FFE062EA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7D45-CB50-48E1-9351-0D42988D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0CEC-5FA7-4906-A0EB-E3DAF8502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000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47840" y="1143000"/>
            <a:ext cx="46483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0000"/>
                    </a:gs>
                    <a:gs pos="100000">
                      <a:srgbClr val="ffff00"/>
                    </a:gs>
                  </a:gsLst>
                  <a:lin ang="135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dioms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0000"/>
                  </a:gs>
                  <a:gs pos="100000">
                    <a:srgbClr val="ffff00"/>
                  </a:gs>
                </a:gsLst>
                <a:lin ang="135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2590920" y="3886200"/>
            <a:ext cx="396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ardo Mo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ve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lholland Middle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. F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934320" y="1600200"/>
            <a:ext cx="1158840" cy="182880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038480" y="762120"/>
            <a:ext cx="2151360" cy="995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451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56549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000"/>
            </a:gs>
            <a:gs pos="50000">
              <a:srgbClr val="ffff00"/>
            </a:gs>
            <a:gs pos="100000">
              <a:srgbClr val="ff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</a:rPr>
              <a:t>Reading 1.1 Identify idioms, analogies, metaphors and similes in prose and po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860480" y="533520"/>
            <a:ext cx="52261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36147" dir="2700000" blurRad="0" rotWithShape="0">
                    <a:srgbClr val="990000"/>
                  </a:outerShdw>
                </a:effectLst>
                <a:latin typeface="Impact"/>
              </a:rPr>
              <a:t>Table of Contents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36147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089000" y="19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-360" y="19051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de1: Title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de2:Learning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de3:Table of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de4:About the Auth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de5:Authors 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de6:Idiom 1:Cat out of the B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de7:Idiom 2:Cat Got Your To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de8:Idiom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de9:Idiom4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000"/>
            </a:gs>
            <a:gs pos="50000">
              <a:srgbClr val="4d0808"/>
            </a:gs>
            <a:gs pos="100000">
              <a:srgbClr val="ff8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133720" y="609480"/>
            <a:ext cx="41036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36147" dir="2700000" blurRad="0" rotWithShape="0">
                    <a:srgbClr val="875b0d"/>
                  </a:outerShdw>
                </a:effectLst>
                <a:latin typeface="Arial Black"/>
              </a:rPr>
              <a:t>Cat out of the Bag</a:t>
            </a:r>
            <a:endParaRPr b="0" lang="en-US" sz="5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36147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781680" y="1752480"/>
            <a:ext cx="2362320" cy="1560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400800" y="2819520"/>
            <a:ext cx="2187720" cy="2187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609480" y="4952880"/>
            <a:ext cx="7391520" cy="11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36147" dir="2700000" blurRad="0" rotWithShape="0">
                    <a:srgbClr val="c0c0c0"/>
                  </a:outerShdw>
                </a:effectLst>
                <a:latin typeface="American Typewriter"/>
              </a:rPr>
              <a:t>I'M GGGGGGAY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36147" dir="2700000" blurRad="0" rotWithShape="0">
                  <a:srgbClr val="c0c0c0"/>
                </a:outerShdw>
              </a:effectLst>
              <a:latin typeface="American Typewriter"/>
              <a:ea typeface="American Typewriter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600200" y="6210360"/>
            <a:ext cx="5638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36147" dir="2700000" blurRad="0" rotWithShape="0">
                    <a:srgbClr val="875b0d"/>
                  </a:outerShdw>
                </a:effectLst>
                <a:latin typeface="Arial Black"/>
              </a:rPr>
              <a:t>LOVE, GARY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36147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s Angeles Unified School District</cp:lastModifiedBy>
  <dcterms:modified xsi:type="dcterms:W3CDTF">2007-02-08T22:41:01Z</dcterms:modified>
  <cp:revision>4</cp:revision>
  <dc:subject/>
  <dc:title>PowerPoint Presentation</dc:title>
</cp:coreProperties>
</file>